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50FC-3AB9-4A1C-BCA1-C091739B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5E01-91EC-47CC-A59C-78349068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5351-F809-4040-8FE7-120EB7CA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751E-F995-4D65-A415-52791FF5A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7F7D-E28F-43B7-A69C-E90CC8548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E3B5-3132-4733-BD32-60194B9D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DC5D-7028-419E-B500-B389B70B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5004-8103-4BB6-9919-8D5ADE61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B413-86A8-4CA6-9C62-BAECC012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9B42-0E6D-411E-ABB6-B88F99AE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A9C3-99B1-454F-8C24-DB0BF8AB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DC73-E4AC-45DA-A355-FC2EAF62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DFE1-FEA3-4137-BAC6-914D7C3E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ACF0-E643-4154-B418-F934EA3D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5B0B-EEF3-49AB-91B6-F65315F4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51BD-18A6-43A5-9EB0-8B4CE7E67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116B-C46B-479D-85A7-3AB84CDD3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98A2-2485-410E-A320-5D23C1FF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FA1A-FF54-4BC0-9A78-C67D92CB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1842-3111-4013-ABCA-7DD43731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6CF7-E83F-483C-9F80-45ACEB2A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F1A1-90C5-4EBC-9FCC-0ED2BC11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5F28-B5A4-4CF0-AD4A-64169587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65A1-DDAF-4E73-B44B-60D87844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AFEB-649A-4992-88DE-EFCEA8F8488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6118-8CB8-4440-814B-94468CDCD89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7335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Earwig Factory"/>
              </a:rPr>
              <a:t>Junior Class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934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opee"/>
              </a:rPr>
              <a:t>Purpose </a:t>
            </a:r>
            <a:r>
              <a:rPr b="1" lang="en-US" sz="4400" spc="-1" strike="noStrike">
                <a:solidFill>
                  <a:srgbClr val="000000"/>
                </a:solidFill>
                <a:latin typeface="Boopee"/>
              </a:rPr>
              <a:t>of Advisory Peri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057640" y="0"/>
            <a:ext cx="40863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162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lue Highway Linocut"/>
              </a:rPr>
              <a:t>What is the purpose of advisory period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rovide general academic, financial, college and career information and guidance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ach grade level has a specific curriculum designed to meet the needs of that particular group.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Jokerman"/>
              </a:rPr>
              <a:t>Junior Focus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Jokerman"/>
              </a:rPr>
              <a:t>PERSONAL FINANC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ey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ancial Responsi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dit Ca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vin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dit Un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ancial A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7688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56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rman"/>
              </a:rPr>
              <a:t>Junior Focus Continue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5181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eer Prepa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ésumé build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lege Prepa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lege Sear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holarship Applicatio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lege Appl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T/ACT Pre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343400" y="2629080"/>
            <a:ext cx="42292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" dur="2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21:15:10Z</dcterms:created>
  <dc:creator>Tech</dc:creator>
  <dc:description/>
  <dc:language>en-US</dc:language>
  <cp:lastModifiedBy>ASD</cp:lastModifiedBy>
  <dcterms:modified xsi:type="dcterms:W3CDTF">2011-05-31T20:07:34Z</dcterms:modified>
  <cp:revision>12</cp:revision>
  <dc:subject/>
  <dc:title>Sophomore Class </dc:title>
</cp:coreProperties>
</file>